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E6AB-141E-4E48-928F-DFB596B6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DCB8-D854-4560-AE37-1EB541CC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BE9-FD5A-4F0E-9C55-30F32794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F0E3-14D9-4BD8-910B-B7D39A44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C14-AB57-408B-93AA-0B790BAE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E02-ABB0-4438-B512-5A4225D9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AB4-DE8C-4709-B352-CF23D649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C40-B365-498A-BAB5-A8D24C30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E40-8D15-4C75-B99E-6F3C8917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3DAF-FC77-471D-AE24-CDFBC989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916E-E7C3-4748-89DB-02492BD9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235-59A0-48F4-B0CF-7290D262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D95B-EA71-4054-8A5F-CC9452904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armonie Du Soir À Châteaugua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eau Dom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6 Harmonie Du Soir A Chateauguay 1.m4a" descr=""/>
          <p:cNvPicPr/>
          <p:nvPr/>
        </p:nvPicPr>
        <p:blipFill>
          <a:blip r:embed="rId1"/>
          <a:stretch/>
        </p:blipFill>
        <p:spPr>
          <a:xfrm>
            <a:off x="449568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914400" y="6858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'est plein d'oiseaux qui cour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le long de l'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937080" y="601992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erson conj.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u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914400" y="68580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'est plein d'oiseaux qui cour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le long de l'eau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 chantant leurs chansons d'oise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937080" y="601992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erson conj.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u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914400" y="685800"/>
            <a:ext cx="8229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'est plein d'oiseaux qui coure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le long de l'eau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 chantant leurs chansons d'oiseaux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'est plein d'oiseaux qui courent le long de l'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937080" y="601992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erson conj.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u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9144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enfants r'viennent en chaloup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919080" y="525780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ay of b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914400" y="6858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enfants r'viennent en chaloup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 ont pêché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rois crapets soleil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928440" y="5257800"/>
            <a:ext cx="30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ay of b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ller à la pê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e sorte de poi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914400" y="68580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enfants r'viennent en chaloup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 ont pêché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rois crapets soleil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 ont pêché trois crapets sole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928440" y="5257800"/>
            <a:ext cx="30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ay of b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ller à la pê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e sorte de poi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914400" y="685800"/>
            <a:ext cx="8229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enfants r'viennent en chaloup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 ont pêché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rois crapets soleil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 ont pêché trois crapets solei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 ont pêché trois crapets sole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928440" y="5257800"/>
            <a:ext cx="30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way of b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ller à la pê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e sorte de poi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914400" y="6858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mouches à feu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ont des fol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996840" y="5486400"/>
            <a:ext cx="15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914400" y="68580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mouches à feu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ont des fo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ouaouaron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ont pas plus f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1001520" y="5486400"/>
            <a:ext cx="32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grands grenou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914400" y="68580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mouches à feu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ont des fo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ouaouaron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ont pas plus fi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ouaouarons sont pas plus f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1001520" y="5486400"/>
            <a:ext cx="32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grands grenou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914400" y="6858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 au soir à Châteaugu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914400" y="685800"/>
            <a:ext cx="891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mouches à feu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ont des fol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ouaouaron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ont pas plus fi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ouaouarons sont pas plus fi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ouaouarons sont pas plus f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1001520" y="5486400"/>
            <a:ext cx="32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grands grenou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951120" y="685800"/>
            <a:ext cx="80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us tard on ira sur le sable s'étend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921600" y="5638680"/>
            <a:ext cx="16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être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951120" y="685800"/>
            <a:ext cx="808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us tard on ira sur le sable s'étend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ur compter les étoiles filante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931320" y="5638680"/>
            <a:ext cx="508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être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oting stars 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iler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run, fly p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"/>
          <p:cNvSpPr/>
          <p:nvPr/>
        </p:nvSpPr>
        <p:spPr>
          <a:xfrm>
            <a:off x="951120" y="685800"/>
            <a:ext cx="808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us tard on ira sur le sable s'étendr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ur compter les étoiles filante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us tard on ira sur le sable s'étend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931320" y="5638680"/>
            <a:ext cx="508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être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oting stars 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iler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run, fly p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914400" y="6858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us tard on ira sur le sable s'étend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914400" y="6858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us tard on ira sur le sable s'étend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ur compter les étoiles fil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914400" y="685800"/>
            <a:ext cx="807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us tard on ira sur le sable s'étend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ur compter les étoiles filan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us tard on ira sur le sable s'étend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914400" y="6858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 au soir à Châteaugu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914400" y="68580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 au soir à Châteaugu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 au bout du qu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914400" y="685800"/>
            <a:ext cx="762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 au soir à Châteaugu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 au bout du qua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 au bout du qu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914400" y="68580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 au soir à Châteaugu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u bout du qua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935640" y="5646600"/>
            <a:ext cx="519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 participle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endre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h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uai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914400" y="68580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 au soir à Châteaugu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 au bout du qua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 au bout du qua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 au bout du qu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914400" y="68580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 au soir à Châteaugu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u bout du qua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 au bout du qu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935640" y="5646600"/>
            <a:ext cx="519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 participle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endre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h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uai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914400" y="68580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manche au soir à Châteaugu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u bout du quai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 au bout du qua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s pieds pendant au bout du qu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935640" y="5646600"/>
            <a:ext cx="519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 participle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endre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h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uai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914400" y="685800"/>
            <a:ext cx="975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rivière joue d'l'harmo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914400" y="685800"/>
            <a:ext cx="9753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rivière joue d'l'harmonic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 blonde se baign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les pie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s l'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928800" y="594360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e baigner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wash or ba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914400" y="685800"/>
            <a:ext cx="9753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rivière joue d'l'harmonic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 blonde se baign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les pie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s l'eau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 blonde se baigne les pie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s l'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928800" y="594360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e baigner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wash or ba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914400" y="685800"/>
            <a:ext cx="9753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rivière joue d'l'harmonic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 blonde se baign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les pie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s l'eau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 blonde se baigne les pie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s l'eau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 blonde se baigne les pie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s l'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928800" y="594360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e baigner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wash or ba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1:28:20Z</dcterms:created>
  <dc:creator>Angie</dc:creator>
  <dc:description/>
  <dc:language>en-US</dc:language>
  <cp:lastModifiedBy>Angie</cp:lastModifiedBy>
  <dcterms:modified xsi:type="dcterms:W3CDTF">2011-11-14T19:00:33Z</dcterms:modified>
  <cp:revision>5</cp:revision>
  <dc:subject/>
  <dc:title>Harmonie Du Soir À Châteauguay:</dc:title>
</cp:coreProperties>
</file>